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D5BC-E21A-477F-920F-62B74BA60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2A12-A7E4-4EF4-AB57-C6BAAD5974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F624-BFE0-4936-821B-E51C308F7A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CEE2-B2F4-45A6-91AD-5B9276CBBF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E0A3-BE0E-4263-A42E-059A209D8E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BF38-0BBF-4E01-8B07-EB7DD8C21B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743D-E16E-4617-A128-1A0DF82991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ADCB-521F-4D64-B5BB-2F024C7937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D586-2554-4152-AA05-8CB38334EE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0E9B-1F68-432D-83E8-E07ADD74C4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22D3-9BC9-4FA7-8967-DCF6023606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3835-FB4C-4FBB-85EA-D37D3BFF24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650B-C41B-4325-979F-111790C278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D9C5-1F30-4A7F-A4EA-3CE1F27B25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3975-C293-411C-8017-403AC788BE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A809-AB23-463C-B4EA-6BF6A63489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3564-F664-4C55-B1A3-027F760B3D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5917-53C5-4E3D-80B5-27B022129D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0531-B723-43D3-8CE1-BB69284CAF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FD56-89FB-4744-81A3-12FF94C17D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0A48-7A8E-45C5-9ECD-EEFD166EDF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1851-A463-4F87-9B8A-2C7FD70258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B16F-C8F0-4203-80D0-028FFB29EA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082C-290A-443D-9349-A2EB3707CE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DD13-C5B1-414D-ABF8-DEB9F1157D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52B4-D7BE-4A1E-A756-40BC5D8A21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64FA-DACF-4826-9D82-EE4E0F26DA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2581-5D6D-426D-8697-2E6BEBED62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FF14-38AA-4652-A7F3-1DB50D206B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D736-A959-4AD0-A6DF-ED5D71B36D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E0925-B4F9-4A19-9102-0E90E761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E7C11-250D-4490-BBAA-AE9FA512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3EC7E-41CB-4396-883A-5509B20E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B5A25-DADE-44CD-8D77-FC2BE0AF4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06EC-5740-4105-8521-8C7EEF73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C390-F3AE-4468-BB38-7400B413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AA46-6E32-4BBC-AE14-349F6D05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3478-0EA8-48E8-9F95-01E99D3C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16D9-3447-4C9C-BA9A-D9412331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7830-3BEC-42B3-98C1-4F251F57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D4AA-DA38-4C6C-BADD-4D44BCB0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5B8B4-33F9-4C58-9D25-4EDE9558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C470-B941-411F-BE91-DE3D6CC5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95D3-4FBE-407A-8EF3-03FF14F7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4CE7-B474-42B8-8B78-BD42AD6A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D390-9F70-461A-8784-2B063E8B2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08AE-0E2D-4CAB-8928-DE42D89C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E4015-EC82-467B-A5BD-BEB9386F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47F97-0A41-4E60-AE0C-CC86FEE3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0F31F-5DF7-4EC8-BE77-59A3A70E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68580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1DC94-EB35-40AE-BF9A-617FBE05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50EED-897C-47F6-A450-AB7932F7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DE503-1C9D-4F57-817E-250A3F13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7DD80-4F26-4B40-B178-83A7A90A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6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2166840" y="563400"/>
            <a:ext cx="4800600" cy="6151680"/>
            <a:chOff x="2166840" y="563400"/>
            <a:chExt cx="4800600" cy="6151680"/>
          </a:xfrm>
        </p:grpSpPr>
        <p:sp>
          <p:nvSpPr>
            <p:cNvPr id="1" name="Freeform 2"/>
            <p:cNvSpPr/>
            <p:nvPr/>
          </p:nvSpPr>
          <p:spPr>
            <a:xfrm>
              <a:off x="4500720" y="930240"/>
              <a:ext cx="139680" cy="1779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779480"/>
                <a:gd name="textAreaBottom" fmla="*/ 1779840 h 177948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4498920" y="3016080"/>
              <a:ext cx="133560" cy="57636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4484520" y="3957480"/>
              <a:ext cx="133560" cy="3952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4494240" y="4707000"/>
              <a:ext cx="82440" cy="3682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4525920" y="5324400"/>
              <a:ext cx="57240" cy="2113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4525920" y="5778360"/>
              <a:ext cx="47520" cy="936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4127400" y="5707080"/>
              <a:ext cx="370080" cy="206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4100400" y="4584600"/>
              <a:ext cx="738360" cy="102564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4708440" y="3803760"/>
              <a:ext cx="505080" cy="669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669960"/>
                <a:gd name="textAreaBottom" fmla="*/ 669960 h 66996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3664080" y="1889280"/>
              <a:ext cx="2228760" cy="1830240"/>
            </a:xfrm>
            <a:custGeom>
              <a:avLst/>
              <a:gdLst>
                <a:gd name="textAreaLeft" fmla="*/ 0 w 2228760"/>
                <a:gd name="textAreaRight" fmla="*/ 2229120 w 2228760"/>
                <a:gd name="textAreaTop" fmla="*/ 0 h 1830240"/>
                <a:gd name="textAreaBottom" fmla="*/ 1830600 h 183024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4303800" y="5207040"/>
              <a:ext cx="584280" cy="669960"/>
            </a:xfrm>
            <a:custGeom>
              <a:avLst/>
              <a:gdLst/>
              <a:ahLst/>
              <a:rect l="l" t="t" r="r" b="b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3860640" y="2844720"/>
              <a:ext cx="1570320" cy="2284560"/>
            </a:xfrm>
            <a:custGeom>
              <a:avLst/>
              <a:gdLst>
                <a:gd name="textAreaLeft" fmla="*/ 0 w 1570320"/>
                <a:gd name="textAreaRight" fmla="*/ 1570680 w 1570320"/>
                <a:gd name="textAreaTop" fmla="*/ 0 h 2284560"/>
                <a:gd name="textAreaBottom" fmla="*/ 2284920 h 228456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3333600" y="1844640"/>
              <a:ext cx="1062360" cy="92412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2166840" y="925560"/>
              <a:ext cx="2243160" cy="871560"/>
            </a:xfrm>
            <a:custGeom>
              <a:avLst/>
              <a:gdLst>
                <a:gd name="textAreaLeft" fmla="*/ 0 w 2243160"/>
                <a:gd name="textAreaRight" fmla="*/ 2243520 w 224316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5" name="Oval 16"/>
            <p:cNvSpPr/>
            <p:nvPr/>
          </p:nvSpPr>
          <p:spPr>
            <a:xfrm>
              <a:off x="4421160" y="563400"/>
              <a:ext cx="297000" cy="314640"/>
            </a:xfrm>
            <a:prstGeom prst="ellipse">
              <a:avLst/>
            </a:pr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4724280" y="925560"/>
              <a:ext cx="2243160" cy="871560"/>
            </a:xfrm>
            <a:custGeom>
              <a:avLst/>
              <a:gdLst>
                <a:gd name="textAreaLeft" fmla="*/ 0 w 2243160"/>
                <a:gd name="textAreaRight" fmla="*/ 2243520 w 224316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00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7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E988-F43F-45B3-B36A-C219AB875699}" type="slidenum"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6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18"/>
          <p:cNvGrpSpPr/>
          <p:nvPr/>
        </p:nvGrpSpPr>
        <p:grpSpPr>
          <a:xfrm>
            <a:off x="2166840" y="563400"/>
            <a:ext cx="4800600" cy="6151680"/>
            <a:chOff x="2166840" y="563400"/>
            <a:chExt cx="4800600" cy="6151680"/>
          </a:xfrm>
        </p:grpSpPr>
        <p:sp>
          <p:nvSpPr>
            <p:cNvPr id="59" name="Freeform 2"/>
            <p:cNvSpPr/>
            <p:nvPr/>
          </p:nvSpPr>
          <p:spPr>
            <a:xfrm>
              <a:off x="4500720" y="930240"/>
              <a:ext cx="139680" cy="1779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779480"/>
                <a:gd name="textAreaBottom" fmla="*/ 1779840 h 177948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0" name="Freeform 3"/>
            <p:cNvSpPr/>
            <p:nvPr/>
          </p:nvSpPr>
          <p:spPr>
            <a:xfrm>
              <a:off x="4498920" y="3016080"/>
              <a:ext cx="133560" cy="57636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4484520" y="3957480"/>
              <a:ext cx="133560" cy="3952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4494240" y="4707000"/>
              <a:ext cx="82440" cy="3682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4525920" y="5324400"/>
              <a:ext cx="57240" cy="2113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4525920" y="5778360"/>
              <a:ext cx="47520" cy="936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4127400" y="5707080"/>
              <a:ext cx="370080" cy="206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6" name="Freeform 9"/>
            <p:cNvSpPr/>
            <p:nvPr/>
          </p:nvSpPr>
          <p:spPr>
            <a:xfrm>
              <a:off x="4100400" y="4584600"/>
              <a:ext cx="738360" cy="102564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7" name="Freeform 10"/>
            <p:cNvSpPr/>
            <p:nvPr/>
          </p:nvSpPr>
          <p:spPr>
            <a:xfrm>
              <a:off x="4708440" y="3803760"/>
              <a:ext cx="505080" cy="669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669960"/>
                <a:gd name="textAreaBottom" fmla="*/ 669960 h 66996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8" name="Freeform 11"/>
            <p:cNvSpPr/>
            <p:nvPr/>
          </p:nvSpPr>
          <p:spPr>
            <a:xfrm>
              <a:off x="3664080" y="1889280"/>
              <a:ext cx="2228760" cy="1830240"/>
            </a:xfrm>
            <a:custGeom>
              <a:avLst/>
              <a:gdLst>
                <a:gd name="textAreaLeft" fmla="*/ 0 w 2228760"/>
                <a:gd name="textAreaRight" fmla="*/ 2229120 w 2228760"/>
                <a:gd name="textAreaTop" fmla="*/ 0 h 1830240"/>
                <a:gd name="textAreaBottom" fmla="*/ 1830600 h 183024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9" name="Freeform 12"/>
            <p:cNvSpPr/>
            <p:nvPr/>
          </p:nvSpPr>
          <p:spPr>
            <a:xfrm>
              <a:off x="4303800" y="5207040"/>
              <a:ext cx="584280" cy="669960"/>
            </a:xfrm>
            <a:custGeom>
              <a:avLst/>
              <a:gdLst/>
              <a:ahLst/>
              <a:rect l="l" t="t" r="r" b="b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0" name="Freeform 13"/>
            <p:cNvSpPr/>
            <p:nvPr/>
          </p:nvSpPr>
          <p:spPr>
            <a:xfrm>
              <a:off x="3860640" y="2844720"/>
              <a:ext cx="1570320" cy="2284560"/>
            </a:xfrm>
            <a:custGeom>
              <a:avLst/>
              <a:gdLst>
                <a:gd name="textAreaLeft" fmla="*/ 0 w 1570320"/>
                <a:gd name="textAreaRight" fmla="*/ 1570680 w 1570320"/>
                <a:gd name="textAreaTop" fmla="*/ 0 h 2284560"/>
                <a:gd name="textAreaBottom" fmla="*/ 2284920 h 228456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1" name="Freeform 14"/>
            <p:cNvSpPr/>
            <p:nvPr/>
          </p:nvSpPr>
          <p:spPr>
            <a:xfrm>
              <a:off x="3333600" y="1844640"/>
              <a:ext cx="1062360" cy="92412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2" name="Freeform 15"/>
            <p:cNvSpPr/>
            <p:nvPr/>
          </p:nvSpPr>
          <p:spPr>
            <a:xfrm>
              <a:off x="2166840" y="925560"/>
              <a:ext cx="2243160" cy="871560"/>
            </a:xfrm>
            <a:custGeom>
              <a:avLst/>
              <a:gdLst>
                <a:gd name="textAreaLeft" fmla="*/ 0 w 2243160"/>
                <a:gd name="textAreaRight" fmla="*/ 2243520 w 224316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3" name="Oval 16"/>
            <p:cNvSpPr/>
            <p:nvPr/>
          </p:nvSpPr>
          <p:spPr>
            <a:xfrm>
              <a:off x="4421160" y="563400"/>
              <a:ext cx="297000" cy="314640"/>
            </a:xfrm>
            <a:prstGeom prst="ellipse">
              <a:avLst/>
            </a:pr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4" name="Freeform 17"/>
            <p:cNvSpPr/>
            <p:nvPr/>
          </p:nvSpPr>
          <p:spPr>
            <a:xfrm>
              <a:off x="4724280" y="925560"/>
              <a:ext cx="2243160" cy="871560"/>
            </a:xfrm>
            <a:custGeom>
              <a:avLst/>
              <a:gdLst>
                <a:gd name="textAreaLeft" fmla="*/ 0 w 2243160"/>
                <a:gd name="textAreaRight" fmla="*/ 2243520 w 224316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00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7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8619-4131-422E-8525-B99AF737D47D}" type="slidenum">
              <a:rPr b="0" lang="en-US" sz="14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ssure Ulcers 101</a:t>
            </a:r>
            <a:br>
              <a:rPr sz="4000"/>
            </a:br>
            <a:r>
              <a:rPr b="1" lang="en-US" sz="3200" spc="-1" strike="noStrike">
                <a:solidFill>
                  <a:srgbClr val="fafd00"/>
                </a:solidFill>
                <a:latin typeface="Monotype Corsiva"/>
              </a:rPr>
              <a:t>or</a:t>
            </a:r>
            <a:br>
              <a:rPr sz="3200"/>
            </a:br>
            <a:r>
              <a:rPr b="0" lang="en-US" sz="4000" spc="-1" strike="noStrike">
                <a:solidFill>
                  <a:srgbClr val="fafd00"/>
                </a:solidFill>
                <a:latin typeface="Monotype Corsiva"/>
              </a:rPr>
              <a:t>Hospital Acquired Pressure Ulcers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Monotype Corsiva"/>
              </a:rPr>
              <a:t>What you need to know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49440" y="4127040"/>
            <a:ext cx="604512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Kristin Moeller, M.D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Contra Costa Regional Medical Cent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July 2009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if I identify a 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ssure Ulcer?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it in your H &amp; P (or Progress Not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it in your orders as an admit diagnosis, either as a primary or secondary diagnosi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orders for wound ca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y the Charge Nurse and fill out a SERS repor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sure? Ask a Staff member for help (Attending M.D. or Charge Nurs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ging Basics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be intimidated, the rules are eas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Pressure Ulcers are stageabl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040040" indent="-20772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wounds (surgical, venous stasis, neuropathic/diabetic ulcers)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wound never “regresses” in stag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040040" indent="-20772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age 2 is always a Stage 2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040040" indent="-20772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it heals, it becomes a “healing Stage 2 ulcer”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2038320" y="152280"/>
          <a:ext cx="5067360" cy="655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8320" y="152280"/>
                    <a:ext cx="5067360" cy="655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ge 1 Pressure Ulcer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blanching erythema over a pressure point; area may be painful, firm, soft, warm or cool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: the skin is intac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rcRect l="1171" t="12101" r="3761" b="12561"/>
          <a:stretch/>
        </p:blipFill>
        <p:spPr>
          <a:xfrm>
            <a:off x="2500200" y="3429000"/>
            <a:ext cx="4129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Stage 2 Pressure Ulcer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al thickness disruption of the dermis with shallow red/pink wound b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lough; no undermining or tunneling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: this includes blister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4" name="Picture 5" descr="CNCD0003_27Jan"/>
          <p:cNvPicPr/>
          <p:nvPr/>
        </p:nvPicPr>
        <p:blipFill>
          <a:blip r:embed="rId1"/>
          <a:srcRect l="0" t="0" r="0" b="29089"/>
          <a:stretch/>
        </p:blipFill>
        <p:spPr>
          <a:xfrm>
            <a:off x="2362320" y="3886200"/>
            <a:ext cx="434340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Skin Tears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o not confuse a Stage 2 Pressure Ulcer with a skin tea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7" name="Picture 4" descr="skintear"/>
          <p:cNvPicPr/>
          <p:nvPr/>
        </p:nvPicPr>
        <p:blipFill>
          <a:blip r:embed="rId1"/>
          <a:stretch/>
        </p:blipFill>
        <p:spPr>
          <a:xfrm>
            <a:off x="2514600" y="3276720"/>
            <a:ext cx="40384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Stage 3 Pressure Ulcer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thickness tissue loss with disruption of the dermis and into SubQ; may have slough, tunneling,undermining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scle, tendon or bone is expose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>
            <a:lum contrast="20000"/>
          </a:blip>
          <a:srcRect l="4003" t="4197" r="52062" b="3554"/>
          <a:stretch/>
        </p:blipFill>
        <p:spPr>
          <a:xfrm>
            <a:off x="457200" y="3433680"/>
            <a:ext cx="3886200" cy="2971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Tunneling 2"/>
          <p:cNvPicPr/>
          <p:nvPr/>
        </p:nvPicPr>
        <p:blipFill>
          <a:blip r:embed="rId2"/>
          <a:srcRect l="0" t="0" r="10528" b="0"/>
          <a:stretch/>
        </p:blipFill>
        <p:spPr>
          <a:xfrm>
            <a:off x="4800600" y="3429000"/>
            <a:ext cx="388620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ge 4 Pressure Ulcer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deeper disruption, which disrupts the fascia and may or may not involve muscle, bone, tendon or ligamen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: does not necessarily go to bone but be suspicious for osteomyeliti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4" name="Picture 5" descr="PU Cavity"/>
          <p:cNvPicPr/>
          <p:nvPr/>
        </p:nvPicPr>
        <p:blipFill>
          <a:blip r:embed="rId1"/>
          <a:stretch/>
        </p:blipFill>
        <p:spPr>
          <a:xfrm>
            <a:off x="2857680" y="4038480"/>
            <a:ext cx="339084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ep Tissue Injury I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ple or maroon localized area of discolored intact skin or blood-filled blister due to damage to underlying soft tissue from pressur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7" name="Object 3" descr=""/>
          <p:cNvPicPr/>
          <p:nvPr/>
        </p:nvPicPr>
        <p:blipFill>
          <a:blip r:embed="rId1"/>
          <a:srcRect l="0" t="10326" r="-186" b="20668"/>
          <a:stretch/>
        </p:blipFill>
        <p:spPr>
          <a:xfrm>
            <a:off x="3048120" y="3276720"/>
            <a:ext cx="4181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Deep Tissue Injury II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area may be preceded by tissue that is painful, firm, boggy, warmer or cooler as compared to adjacent tissue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Evolution may be rapid exposing additional layers of tissue even with treatmen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Learning Objectives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earn the definition of a Hospital Acquired Pressure Ulcer (HAPU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earn the significance of HAP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earn how to stage HAP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earn who is at risk for HAP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earn how to prevent HAP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Unstageable I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thickness tissue injury in which the base of the ulcer is covered by slough (yellow, tan, gray, green, brown) or eschar (tan, brown, black)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2" name="Picture 6" descr="Sacral Eschar #1"/>
          <p:cNvPicPr/>
          <p:nvPr/>
        </p:nvPicPr>
        <p:blipFill>
          <a:blip r:embed="rId1"/>
          <a:stretch/>
        </p:blipFill>
        <p:spPr>
          <a:xfrm>
            <a:off x="5200560" y="3962520"/>
            <a:ext cx="3257640" cy="2598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Slough"/>
          <p:cNvPicPr/>
          <p:nvPr/>
        </p:nvPicPr>
        <p:blipFill>
          <a:blip r:embed="rId2"/>
          <a:stretch/>
        </p:blipFill>
        <p:spPr>
          <a:xfrm>
            <a:off x="1066680" y="3962520"/>
            <a:ext cx="327672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Unstageable II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pic>
        <p:nvPicPr>
          <p:cNvPr id="175" name="Picture 4" descr="Don't debride heels"/>
          <p:cNvPicPr/>
          <p:nvPr/>
        </p:nvPicPr>
        <p:blipFill>
          <a:blip r:embed="rId1"/>
          <a:stretch/>
        </p:blipFill>
        <p:spPr>
          <a:xfrm>
            <a:off x="2978280" y="3930480"/>
            <a:ext cx="3193920" cy="2546640"/>
          </a:xfrm>
          <a:prstGeom prst="rect">
            <a:avLst/>
          </a:prstGeom>
          <a:ln w="0">
            <a:noFill/>
          </a:ln>
        </p:spPr>
      </p:pic>
      <p:sp>
        <p:nvSpPr>
          <p:cNvPr id="176" name="Content Placeholder 2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Special care must be taken with heel ulcers.       Do NOT unroof unless aided by an experienced physician. They may be better left intac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95200" y="122400"/>
          <a:ext cx="8553600" cy="66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122400"/>
                    <a:ext cx="8553600" cy="66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eatment I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wounds moist but not too mois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0560" indent="-3405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ride any necrotic or excess fibrinous tissu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, chemical or autolytic debridemen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are getting near bone, tendon or ligament,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ntil you have more experienced hands &amp; eyes with you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0560" indent="-3405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ess the wound is a Stage 4 or causing sepsis, this can all be done slowly and cautiously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p to dry dressing with Saline will get you through the nigh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0560" indent="-3405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are the new primary team in the AM, look at the identified wound a.s.a.p. and begin to formulate a treatment pla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eatment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II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/reassess prevention strategie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sure reducing mattres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imize mobilit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imize Nutri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e devic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skin hygien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sure to communicate with your patient &amp; caregiver in his/her native languag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ower your patient to partake in his/her car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76320" y="216000"/>
          <a:ext cx="8991360" cy="64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16000"/>
                    <a:ext cx="8991360" cy="64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ound Care Team</a:t>
            </a:r>
            <a:br>
              <a:rPr sz="48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“Wound Wednesdays”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7964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 1:  Educate!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 2:  Prevent Pressure Ulcer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 3:  Prevent worsening of Pressure Ulcers (avoid progression to Stage 3 or 4)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 4:  Help guide treatment via interdisciplinary team approach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 5:  Planned Obsolescence!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s –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re paperwork!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79280"/>
            <a:ext cx="77724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, they are coming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 Documentation and order for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low-up documentation for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 week or for any significant change of statu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s – Initial Documentation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79280"/>
            <a:ext cx="7772400" cy="38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2362320" y="1143000"/>
          <a:ext cx="430524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143000"/>
                    <a:ext cx="430524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hoto – op?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Pressure Ulcer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ust b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cumented with photo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on diagnosis and Q week on Wednesday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tos are uploaded in PACS (yup, with the Xrays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wound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ay b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cumented with photos to document wound progress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ssure Ulcer</a:t>
            </a:r>
            <a:endParaRPr b="1" lang="en-US" sz="5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119320"/>
            <a:ext cx="7772400" cy="32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Localized skin injury which develops as a result of unrelieved pressur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quently over a bony promin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as a result of a medical device (Foley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is a result of shear or friction forces combined with pressu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 Brief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4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ation is ke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ian must be part of documentation of HAP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be documented on admit H &amp; P to document that it was not caused at our facilit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ion is ke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k for help as we are all learning this new syste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PU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Hospital-acquired pressure ulcer)</a:t>
            </a:r>
            <a:endParaRPr b="1" lang="en-US" sz="36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22160" y="1979280"/>
            <a:ext cx="7699680" cy="36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PU is the new buzz-word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ion of HAPU is ke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ing Stage 1 and 2 ulcers from progression to Stage 3 or 4 is the next go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PU</a:t>
            </a:r>
            <a:endParaRPr b="1" lang="en-US" sz="5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705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CMS (Medicare/Medicaid) will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no longer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 reimburse for treatment of Stage 3 or 4 pressure ulcers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acquired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 at our hospita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ge 3 and 4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cers are reportable event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acquired at CCRMC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f present on admission fill out SERS (Safety and Event Reporting System) report on computer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formation goes to Hospital Administration and the State!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3" name="Picture 5" descr="hat"/>
          <p:cNvPicPr/>
          <p:nvPr/>
        </p:nvPicPr>
        <p:blipFill>
          <a:blip r:embed="rId1"/>
          <a:stretch/>
        </p:blipFill>
        <p:spPr>
          <a:xfrm>
            <a:off x="4191120" y="5486400"/>
            <a:ext cx="68580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o’s at risk?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!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l, OK, not everyone but lots of our patient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isk factor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mobility, poor nutrition, critical illness, chronic disease, dehydration, incontinence, fever, infection, poor sensation, obesity, age, medications, and various other medical diagnos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ose job is it to prevent Pressure Ulcers?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41400"/>
            <a:ext cx="777240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’s!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 at the skin, especially in high risk patient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 what you se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cer, no ulcer/intact skin, color chang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Stage 3 or 4, document in H &amp; P and fill out SERS or bring to attention of the Charge Nur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can stage the ulcer, great; if not, talk to an attending or the nurses to help yo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????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, complete patient car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o ulcer on admission, prevent on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re is an ulcer, heal it &amp; prevent worsen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ey $$$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S is one of our main sources of reimbursement – we are charged with caring for some of the most vulnerable members of the popul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do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have to do?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4140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e al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ed to Look and Document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 skin exam on H &amp; P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the skin regularly, especially in high risk patients and document updated exa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st help from Attending Staff or Nursing regarding staging and treat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ursing brings an ulcer to your attention – see it and document it a.s.a.p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04:29:09Z</dcterms:created>
  <dc:creator> </dc:creator>
  <dc:description/>
  <cp:keywords/>
  <dc:language>en-US</dc:language>
  <cp:lastModifiedBy>HCMARTINEZ</cp:lastModifiedBy>
  <dcterms:modified xsi:type="dcterms:W3CDTF">2009-07-21T17:35:57Z</dcterms:modified>
  <cp:revision>3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401033</vt:lpwstr>
  </property>
</Properties>
</file>